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A55-8346-455D-AF0F-21633B8F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747-3046-495F-A6A9-D160E03E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787-7449-46C0-A8FB-E5B54798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D7C-60A8-4C9F-B8FB-8CF97E3D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BFF-8C40-4460-9BE2-6388B049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C56-26DA-469F-AE7D-00B3A9EA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967-4529-4757-942D-1707E50F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EEA-2180-4D3F-BB39-71EE420C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841-447E-44A1-B621-35611568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566-20AB-4485-B020-2CDBF43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A4B-1A08-4770-B11C-F4C90F18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602-1DFC-442D-B43B-93065B11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CD94-C44A-43BC-BED4-3FD354F3A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You C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ley Fa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-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176600">
            <a:off x="6324120" y="228240"/>
            <a:ext cx="2494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chilling an onion make it so that you don’t c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that it will, because the vapors in the onion are cooled dow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onions (one chilled, one unchil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/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o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refrigera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ant Vari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ther or not they c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Vari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led or Unch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hille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d- Chopped for 35 seconds and eyes were bu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m- Chopped for 35 seconds and eyes were burning, at 52 seconds she was cry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sh- Chopped for 3 minutes and had no burning or cry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elf- Instantly burned, cried at 45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(continue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l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s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self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 Mrs. Riffel for letting us have class time to work on our project. Also thanks to my mom for buying my materi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44:51Z</dcterms:created>
  <dc:creator>USD376</dc:creator>
  <dc:description/>
  <dc:language>en-US</dc:language>
  <cp:lastModifiedBy>USD376</cp:lastModifiedBy>
  <dcterms:modified xsi:type="dcterms:W3CDTF">2010-02-02T17:05:19Z</dcterms:modified>
  <cp:revision>6</cp:revision>
  <dc:subject/>
  <dc:title>Do You Cry?</dc:title>
</cp:coreProperties>
</file>